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CB7-EDA4-4997-B57C-CF846CDC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014-7CD9-4FDA-A7CF-4D27D82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96B-3068-4551-A00E-60B12229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B54-713F-40A7-A742-2451064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D35-0104-4FD6-8D55-F16A1C6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769-51FC-46CC-8712-B9946173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E79-1006-4675-AC31-DFB36CFF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661-3B3B-47ED-A500-DD89237A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D0A-8445-4F67-9FF1-E9244664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EAD-A41E-44E8-A5C4-36652920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5E0-EF61-4E22-9209-175B4E0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CE6-BC9D-4DF0-A9C9-26A8E2F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A11-D49F-47FC-A8F1-7EC10DF7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5840" y="2470320"/>
            <a:ext cx="869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ЛУТЕНСК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ЕНТЕРОПАТ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ЦЕЛИЈАКИЈ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669400" y="4906800"/>
            <a:ext cx="59068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01240" y="149400"/>
            <a:ext cx="91940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АТ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X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ЈЕЈУ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ДОСТА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БЕРКИНО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ИП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Б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Т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ЗР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ФИЛТРАЦ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ЕВЕРЗИБИ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108920" y="533520"/>
            <a:ext cx="18828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440" y="149400"/>
            <a:ext cx="7322040" cy="65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ЛИ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Ч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ЗРАСТА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УТ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БИЛН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Ц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АШ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У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Ш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АВ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АБО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РЕД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ВАЊ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БУ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П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И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ША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286-01"/>
          <p:cNvPicPr/>
          <p:nvPr/>
        </p:nvPicPr>
        <p:blipFill>
          <a:blip r:embed="rId1"/>
          <a:stretch/>
        </p:blipFill>
        <p:spPr>
          <a:xfrm>
            <a:off x="6248520" y="457200"/>
            <a:ext cx="27432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41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Text Box 11"/>
          <p:cNvSpPr/>
          <p:nvPr/>
        </p:nvSpPr>
        <p:spPr>
          <a:xfrm>
            <a:off x="1065960" y="387360"/>
            <a:ext cx="788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ДЕНТАЛН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ИЦИЈ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S001650850500199Xgr1"/>
          <p:cNvPicPr/>
          <p:nvPr/>
        </p:nvPicPr>
        <p:blipFill>
          <a:blip r:embed="rId1"/>
          <a:stretch/>
        </p:blipFill>
        <p:spPr>
          <a:xfrm>
            <a:off x="3048120" y="6858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236232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2g019"/>
          <p:cNvPicPr/>
          <p:nvPr/>
        </p:nvPicPr>
        <p:blipFill>
          <a:blip r:embed="rId3"/>
          <a:stretch/>
        </p:blipFill>
        <p:spPr>
          <a:xfrm>
            <a:off x="457200" y="4114800"/>
            <a:ext cx="2362320" cy="16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7"/>
          <p:cNvSpPr/>
          <p:nvPr/>
        </p:nvSpPr>
        <p:spPr>
          <a:xfrm>
            <a:off x="-46800" y="228600"/>
            <a:ext cx="933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КСТРАИНТЕСТИ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К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9440" y="185760"/>
            <a:ext cx="83563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АБОР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ЈСКЕ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И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ЛИЈА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КТИВ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КИВ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НСГЛУТАМ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ОЛ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72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 5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СИЛ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ttg-domini"/>
          <p:cNvPicPr/>
          <p:nvPr/>
        </p:nvPicPr>
        <p:blipFill>
          <a:blip r:embed="rId1"/>
          <a:stretch/>
        </p:blipFill>
        <p:spPr>
          <a:xfrm>
            <a:off x="7140600" y="4734000"/>
            <a:ext cx="192708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ndom"/>
          <p:cNvPicPr/>
          <p:nvPr/>
        </p:nvPicPr>
        <p:blipFill>
          <a:blip r:embed="rId2"/>
          <a:srcRect l="0" t="0" r="0" b="19981"/>
          <a:stretch/>
        </p:blipFill>
        <p:spPr>
          <a:xfrm>
            <a:off x="6705720" y="838080"/>
            <a:ext cx="22096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-379440" y="157320"/>
            <a:ext cx="1000656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     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РИТЕРИЈУ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ВРОПСК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ДРУЖЕ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ЕЧ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АСТРОЕНТЕРОЛОГИ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СПГ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1970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НТЕРЛАК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89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БУДИМПЕ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НОРМ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ОДЕ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ЈУ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РА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ОЉ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ЛАЧ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К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ИЗ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П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И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ОРШ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221400" y="149400"/>
            <a:ext cx="95806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ИН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У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M 3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ЕН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РОБИ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С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ИЈАГНОСТИ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Ш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В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ЦИЈ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ЛУТЕ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620120" y="1666800"/>
            <a:ext cx="1447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accca"/>
          <p:cNvPicPr/>
          <p:nvPr/>
        </p:nvPicPr>
        <p:blipFill>
          <a:blip r:embed="rId1"/>
          <a:stretch/>
        </p:blipFill>
        <p:spPr>
          <a:xfrm>
            <a:off x="304920" y="1981080"/>
            <a:ext cx="3082680" cy="4114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71" name="Picture 5" descr="caccca"/>
          <p:cNvPicPr/>
          <p:nvPr/>
        </p:nvPicPr>
        <p:blipFill>
          <a:blip r:embed="rId2"/>
          <a:stretch/>
        </p:blipFill>
        <p:spPr>
          <a:xfrm>
            <a:off x="4495680" y="838080"/>
            <a:ext cx="3997440" cy="5334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723960" y="1133640"/>
            <a:ext cx="217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=   1  N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922040" y="117360"/>
            <a:ext cx="458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&gt;  1  NS</a:t>
            </a: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caccca"/>
          <p:cNvPicPr/>
          <p:nvPr/>
        </p:nvPicPr>
        <p:blipFill>
          <a:blip r:embed="rId1"/>
          <a:stretch/>
        </p:blipFill>
        <p:spPr>
          <a:xfrm>
            <a:off x="4232160" y="990720"/>
            <a:ext cx="3997440" cy="53337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474480" y="981000"/>
            <a:ext cx="450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152280"/>
            <a:ext cx="84582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ТРОГ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ЕТ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ЕЗ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ЛИМИНИШ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Ш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РАЖИ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В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Д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УКУРУЗ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ИРИНЧ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РОМПИР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О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ПТИМАЛ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ОРЊЕГ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ДЕЛ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ТЕРИ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С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НОРМАЛНО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НЕПОДН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ШЉИВО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ИЗ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ПШЕНИЧНОГ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РАШН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5600" y="1359000"/>
            <a:ext cx="73036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ПРОГН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ЛАГОВ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Н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АВИЛНО 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Ч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6480" cy="419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61720" y="380880"/>
            <a:ext cx="69616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УЧЕСТАЛО</a:t>
            </a:r>
            <a:r>
              <a:rPr b="1" lang="sr-CS" sz="4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АФСКО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УЧ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Ц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60-80%HL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Q2,HLA D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Q8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HLA 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480" y="297000"/>
            <a:ext cx="9199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ПАТОГЕН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ЈАД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ИЧН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PAN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Н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E 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КС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ТЕ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gA,Ig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Ж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К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РУ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00" y="785880"/>
            <a:ext cx="8843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ПАТОФИЗ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T A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ОРПЦ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ИП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ЛИ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ОЈ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Ч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М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ИЈАР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МАЛ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ТЕ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1280" y="1168560"/>
            <a:ext cx="91490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РАСТ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СТАГЛ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Н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Х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И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ДЕН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М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Ч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2800" y="371520"/>
            <a:ext cx="891036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ШТЕЋЕ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Ј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НУ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ИНТЕ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РМ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ОЛЕЦИСТОКИНИ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ГЗОКР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2743200" y="990720"/>
            <a:ext cx="26668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4160" y="700200"/>
            <a:ext cx="7428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ИЗМЕ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Е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ТРАК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ЦЕНТРА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СТЕАТОРЕ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41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320" y="457200"/>
            <a:ext cx="89834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Е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З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И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ИКР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СИЦ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НТЕР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ИДАЗ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ДАЗ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ЧК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ЛИК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ВИС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 О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ШИР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Ж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НТЕНЗИТ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0:20:34Z</dcterms:created>
  <dc:creator>No Name</dc:creator>
  <dc:description/>
  <dc:language>en-US</dc:language>
  <cp:lastModifiedBy>Natasa</cp:lastModifiedBy>
  <dcterms:modified xsi:type="dcterms:W3CDTF">2020-09-30T20:08:46Z</dcterms:modified>
  <cp:revision>55</cp:revision>
  <dc:subject/>
  <dc:title>PowerPoint Presentation</dc:title>
</cp:coreProperties>
</file>