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BC8-0E8B-4677-8650-BAA94A30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186-CCDB-4855-958D-A7085FC54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BC2-FA10-4207-94AB-1A9AC5FC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0CE-8189-4C0F-BA5D-8D13CAD6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0FB-AB4C-4312-8D70-9CB0351D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CE2-C1B4-4689-B6F6-061CB6F0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3DE-580A-4FA9-8AE4-9BAFAF5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EE0-A7DF-45A0-9B2D-A2CA588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E90-6591-438D-8ADF-A6C9B63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11F-079A-4275-AA13-ADA4D7F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D97-3304-4244-849B-5F95CF2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331-2A29-4C41-9002-B3108BB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C72-8654-4660-8536-7CF652B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1E0-FA52-46FE-B8A3-D1EE3C8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DBFD-1112-40A2-B13E-A08E7A51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652560" y="5181480"/>
            <a:ext cx="481212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УЛЕТИ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ИЈАТРИЈС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ГУЈЕВАЦ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143000" y="1028880"/>
            <a:ext cx="685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УБИТКО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ЈЕНА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034720" y="2438280"/>
            <a:ext cx="5605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ж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цз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рмат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удатив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вар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брег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бете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н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а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И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45200" y="2133720"/>
            <a:ext cx="744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УК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ШТ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Б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Е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ТЕИНЕМ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УНО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5280120"/>
            <a:ext cx="8839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БОРАТОР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бум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г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е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пид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К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СФА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сто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нгитудинал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55360" y="2479680"/>
            <a:ext cx="7307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ЛАЊ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јте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ев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2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150 –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ен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јал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хр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гом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фа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OREXIA 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SA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680" y="1584360"/>
            <a:ext cx="477396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МА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ОЛЕСЦ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АД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РАС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5: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ТПРОСЕ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ЛИГ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РОМАШ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ЛЕЧ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Л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ИЦИД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В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И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РВО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ЛОУПОТРЕ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СА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833000" y="990720"/>
            <a:ext cx="4289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ТРЕМ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РША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ТИП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АДИКАРД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ИЈА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ЕС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СТЕР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УНОДЕ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13600" y="4648320"/>
            <a:ext cx="4501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РЕН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ОВА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доцраниу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ЛЕ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81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003400" y="1905120"/>
            <a:ext cx="55162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диопулмона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циј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47680" y="4419720"/>
            <a:ext cx="50349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800960" y="4594320"/>
            <a:ext cx="415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ОБАЛ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75960" y="2124000"/>
            <a:ext cx="55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45720" y="3206880"/>
            <a:ext cx="6022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 %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д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8120" y="4654440"/>
            <a:ext cx="6476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60-80 %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ем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ДОВОЉ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95280" y="3051000"/>
            <a:ext cx="6492960" cy="314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ТР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ЊЕНИ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ИТКО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УТРИЈЕНА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42670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419720" y="990720"/>
            <a:ext cx="4343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јен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 проблеми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280" y="3657600"/>
            <a:ext cx="5248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љ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њ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ост но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пн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181840" y="4165560"/>
            <a:ext cx="35031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мо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687040" y="219240"/>
            <a:ext cx="362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422000" y="2076480"/>
            <a:ext cx="65908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ДИГЕСТ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сти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лест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лов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АПСОРП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индром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ерматити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19320" y="2946240"/>
            <a:ext cx="65325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ОРАВ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ИСТ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РЕБР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ОНГИР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РЕОТОКСИК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БОЛИЗМОМ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667880" y="2793960"/>
            <a:ext cx="53136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ГЕНИТА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Е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вожђа  и цин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ЦИЈ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ПРИВ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13:44Z</dcterms:created>
  <dc:creator>No Name</dc:creator>
  <dc:description/>
  <dc:language>en-US</dc:language>
  <cp:lastModifiedBy>Natasa</cp:lastModifiedBy>
  <dcterms:modified xsi:type="dcterms:W3CDTF">2020-09-30T20:08:17Z</dcterms:modified>
  <cp:revision>13</cp:revision>
  <dc:subject/>
  <dc:title>PowerPoint Presentation</dc:title>
</cp:coreProperties>
</file>