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402A-AA78-436D-989D-F7E038485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4F7F-0AAA-4072-B8DB-028621EA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B879-E609-405A-9A03-21D7C48A8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D5B4-9346-4584-AD85-AE1F0FC1F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D1C3-F14A-4418-96BC-8F91854F8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3E98-904A-4BE8-B26B-BE8B638A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8EB66-5156-469D-9BA9-5A00EC4E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0595-1A4C-4093-AE8F-D49E853F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C57E-0A87-40E0-99B6-F3C485A8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38B1-2DB8-47ED-960F-8AB0C570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4A14-057B-4787-AE35-0413C3DC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ABC9-341C-4EA0-83E9-64503A24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9EC8D-6B70-4DCA-8A1A-BC7E90C0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4FCB-7D80-4C8B-BB0F-1C66EA74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0215-E8EA-4EA0-BCBB-B9778803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849BA-1FC8-43A8-A79E-906095D52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0FFCE-B280-46A3-8598-BE9DB77F1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9A21-BDFB-464D-9335-E1D05F28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2632-B555-4254-8938-C8A9643E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E380-C349-406A-9849-EE0C3891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4616-FA50-4D17-B410-F1ED2AF9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AD93-AB1F-429C-964F-737CC08C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46BB-C49B-4AF8-B81A-FA8083FD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2895-60D3-45BE-9425-4BFC9DB6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Rectangle 3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Picture 4" descr="hokusai2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AF43-BB81-4A6D-95AD-8C345A694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Rectangle 3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Picture 4" descr="hokusai2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3760-8539-4668-BD2F-68E0A961B433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914400"/>
            <a:ext cx="5867280" cy="55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0" lang="sr-RS" sz="4400" spc="-1" strike="noStrike">
                <a:solidFill>
                  <a:srgbClr val="061c62"/>
                </a:solidFill>
                <a:latin typeface="Cooper Bold YU"/>
              </a:rPr>
              <a:t>ВИТАМИН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sr-RS" sz="4400" spc="-1" strike="noStrike">
                <a:solidFill>
                  <a:srgbClr val="061c62"/>
                </a:solidFill>
                <a:latin typeface="Cooper Bold YU"/>
              </a:rPr>
              <a:t>Д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br>
              <a:rPr sz="4400"/>
            </a:br>
            <a:r>
              <a:rPr b="0" lang="sr-RS" sz="4400" spc="-1" strike="noStrike">
                <a:solidFill>
                  <a:srgbClr val="061c62"/>
                </a:solidFill>
                <a:latin typeface="Cooper Bold YU"/>
              </a:rPr>
              <a:t>РАХИТ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I</a:t>
            </a:r>
            <a:r>
              <a:rPr b="0" lang="sr-RS" sz="4400" spc="-1" strike="noStrike">
                <a:solidFill>
                  <a:srgbClr val="061c62"/>
                </a:solidFill>
                <a:latin typeface="Cooper Bold YU"/>
              </a:rPr>
              <a:t>С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br>
              <a:rPr sz="4400"/>
            </a:br>
            <a:br>
              <a:rPr sz="4400"/>
            </a:b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Проф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.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др Биљан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 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Вулетић</a:t>
            </a:r>
            <a:br>
              <a:rPr sz="3200"/>
            </a:br>
            <a:r>
              <a:rPr b="0" lang="sr-RS" sz="2400" spc="-1" strike="noStrike">
                <a:solidFill>
                  <a:srgbClr val="061c62"/>
                </a:solidFill>
                <a:latin typeface="Cooper Bold YU"/>
              </a:rPr>
              <a:t>Педијатријска</a:t>
            </a:r>
            <a:r>
              <a:rPr b="0" lang="sl-SI" sz="2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sr-RS" sz="2400" spc="-1" strike="noStrike">
                <a:solidFill>
                  <a:srgbClr val="061c62"/>
                </a:solidFill>
                <a:latin typeface="Cooper Bold YU"/>
              </a:rPr>
              <a:t>клиника</a:t>
            </a:r>
            <a:r>
              <a:rPr b="0" lang="sl-SI" sz="2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sr-RS" sz="2400" spc="-1" strike="noStrike">
                <a:solidFill>
                  <a:srgbClr val="061c62"/>
                </a:solidFill>
                <a:latin typeface="Cooper Bold YU"/>
              </a:rPr>
              <a:t>Крагујевац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13716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520200"/>
            <a:ext cx="7772400" cy="557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РАХИТИС</a:t>
            </a:r>
            <a:br>
              <a:rPr sz="4800"/>
            </a:br>
            <a:br>
              <a:rPr sz="4800"/>
            </a:b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БОЛЕСТ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РАСТА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РАЗВОЈА</a:t>
            </a:r>
            <a:br>
              <a:rPr sz="4400"/>
            </a:br>
            <a:br>
              <a:rPr sz="4400"/>
            </a:b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ОБНАВЉАЊА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КОСТИЈУ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55680"/>
            <a:ext cx="777240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61c62"/>
                </a:solidFill>
                <a:uFillTx/>
                <a:latin typeface="Cooper Bold YU"/>
              </a:rPr>
              <a:t>УЗРОК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НЕДОСТАТАК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ВИТАМИНА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Д</a:t>
            </a:r>
            <a:br>
              <a:rPr sz="4400"/>
            </a:br>
            <a:br>
              <a:rPr sz="4400"/>
            </a:br>
            <a:r>
              <a:rPr b="0" lang="en-US" sz="4400" spc="-1" strike="noStrike" u="sng">
                <a:solidFill>
                  <a:srgbClr val="061c62"/>
                </a:solidFill>
                <a:uFillTx/>
                <a:latin typeface="Cooper Bold YU"/>
              </a:rPr>
              <a:t>ГЛАВНИ</a:t>
            </a:r>
            <a:r>
              <a:rPr b="0" lang="sl-SI" sz="4400" spc="-1" strike="noStrike" u="sng">
                <a:solidFill>
                  <a:srgbClr val="061c62"/>
                </a:solidFill>
                <a:uFillTx/>
                <a:latin typeface="Cooper Bold YU"/>
              </a:rPr>
              <a:t> </a:t>
            </a:r>
            <a:r>
              <a:rPr b="0" lang="en-US" sz="4400" spc="-1" strike="noStrike" u="sng">
                <a:solidFill>
                  <a:srgbClr val="061c62"/>
                </a:solidFill>
                <a:uFillTx/>
                <a:latin typeface="Cooper Bold YU"/>
              </a:rPr>
              <a:t>ПОРЕМЕЋАЈ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ЛОША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МИНЕРАЛИЗАЦИЈА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            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ОСТЕОИДЕНОГ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ТКИВА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320" y="704880"/>
            <a:ext cx="7772400" cy="569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НЕДОСТАТАК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ВИТАМИНА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Д</a:t>
            </a:r>
            <a:br>
              <a:rPr sz="4400"/>
            </a:br>
            <a:br>
              <a:rPr sz="4400"/>
            </a:br>
            <a:r>
              <a:rPr b="0" lang="en-US" sz="3200" spc="-1" strike="noStrike" u="sng">
                <a:solidFill>
                  <a:srgbClr val="061c62"/>
                </a:solidFill>
                <a:uFillTx/>
                <a:latin typeface="Cooper Bold YU"/>
              </a:rPr>
              <a:t>НЕДОВОЉНО</a:t>
            </a: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излагање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дејству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УВ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зрака</a:t>
            </a: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ВИТ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Д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у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храни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 u="sng">
                <a:solidFill>
                  <a:srgbClr val="061c62"/>
                </a:solidFill>
                <a:uFillTx/>
                <a:latin typeface="Cooper Bold YU"/>
              </a:rPr>
              <a:t>ПОРЕМЕЋАЈ</a:t>
            </a: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ресорпције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и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метаболизм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ВИТ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Д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(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Витамин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Д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резистентни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Рахитис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)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838080" y="-289080"/>
            <a:ext cx="9144000" cy="691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     </a:t>
            </a:r>
            <a:br>
              <a:rPr sz="4800"/>
            </a:b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    </a:t>
            </a: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ЕТИОПА</a:t>
            </a: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TO</a:t>
            </a: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Г</a:t>
            </a: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E</a:t>
            </a: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НЕЗ</a:t>
            </a: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A</a:t>
            </a:r>
            <a:br>
              <a:rPr sz="4800"/>
            </a:b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недост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ат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к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Ви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т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Д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смањен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р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e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с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о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р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пциј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Ц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 i 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Ф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 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П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АР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ТХО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Р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М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O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Н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демин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e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рал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и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з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ц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и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ј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кости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j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у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реапсо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рп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циј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 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Ф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у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про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к.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т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у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б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у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лим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sl-SI" sz="3200" spc="-1" strike="noStrike">
                <a:solidFill>
                  <a:srgbClr val="061c62"/>
                </a:solidFill>
                <a:latin typeface="Wingdings 3"/>
                <a:ea typeface="Wingdings 3"/>
              </a:rPr>
              <a:t>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у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м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ножав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ње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o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ст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e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обла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ст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пораст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a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к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т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ивно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сти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алк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л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не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фос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ф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ат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з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e 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ра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з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вој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х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р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ск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в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ице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м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и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н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e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рализ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ц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и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ј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 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из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ост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j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е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06044f06"/>
          <p:cNvPicPr/>
          <p:nvPr/>
        </p:nvPicPr>
        <p:blipFill>
          <a:blip r:embed="rId1"/>
          <a:stretch/>
        </p:blipFill>
        <p:spPr>
          <a:xfrm>
            <a:off x="181080" y="2362320"/>
            <a:ext cx="75913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914400"/>
            <a:ext cx="7772400" cy="539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КЛИНИЧКЕ</a:t>
            </a: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МАНИФЕСТАЦИЈЕ</a:t>
            </a: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 </a:t>
            </a:r>
            <a:br>
              <a:rPr sz="4800"/>
            </a:br>
            <a:br>
              <a:rPr sz="4800"/>
            </a:b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СКЕЛЕТ</a:t>
            </a:r>
            <a:br>
              <a:rPr sz="44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кранотабес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,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к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апут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квадратум</a:t>
            </a: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рахитичне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бројанице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пе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к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тус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к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аринатум</a:t>
            </a:r>
            <a:br>
              <a:rPr sz="3200"/>
            </a:b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к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рур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вар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рахити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к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а</a:t>
            </a:r>
            <a:br>
              <a:rPr sz="3200"/>
            </a:br>
            <a:r>
              <a:rPr b="1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1" lang="sl-SI" sz="3200" spc="-1" strike="noStrike">
                <a:solidFill>
                  <a:srgbClr val="061c62"/>
                </a:solidFill>
                <a:latin typeface="Times New Roman"/>
              </a:rPr>
              <a:t>”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марфанов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туберкулум</a:t>
            </a:r>
            <a:r>
              <a:rPr b="1" lang="sl-SI" sz="3200" spc="-1" strike="noStrike">
                <a:solidFill>
                  <a:srgbClr val="061c62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685800" y="203040"/>
            <a:ext cx="9144000" cy="673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ЗУБИ</a:t>
            </a:r>
            <a:br>
              <a:rPr sz="4400"/>
            </a:br>
            <a:br>
              <a:rPr sz="4400"/>
            </a:br>
            <a:r>
              <a:rPr b="1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1" lang="en-US" sz="3200" spc="-1" strike="noStrike">
                <a:solidFill>
                  <a:srgbClr val="edf0f1"/>
                </a:solidFill>
                <a:latin typeface="Cooper Bold YU"/>
              </a:rPr>
              <a:t>касни</a:t>
            </a:r>
            <a:r>
              <a:rPr b="1" lang="sl-SI" sz="3200" spc="-1" strike="noStrike">
                <a:solidFill>
                  <a:srgbClr val="edf0f1"/>
                </a:solidFill>
                <a:latin typeface="Cooper Bold YU"/>
              </a:rPr>
              <a:t> </a:t>
            </a:r>
            <a:r>
              <a:rPr b="1" lang="en-US" sz="3200" spc="-1" strike="noStrike">
                <a:solidFill>
                  <a:srgbClr val="edf0f1"/>
                </a:solidFill>
                <a:latin typeface="Cooper Bold YU"/>
              </a:rPr>
              <a:t>млечна</a:t>
            </a:r>
            <a:r>
              <a:rPr b="1" lang="sl-SI" sz="3200" spc="-1" strike="noStrike">
                <a:solidFill>
                  <a:srgbClr val="edf0f1"/>
                </a:solidFill>
                <a:latin typeface="Cooper Bold YU"/>
              </a:rPr>
              <a:t> </a:t>
            </a:r>
            <a:r>
              <a:rPr b="1" lang="en-US" sz="3200" spc="-1" strike="noStrike">
                <a:solidFill>
                  <a:srgbClr val="edf0f1"/>
                </a:solidFill>
                <a:latin typeface="Cooper Bold YU"/>
              </a:rPr>
              <a:t>дентиција</a:t>
            </a:r>
            <a:br>
              <a:rPr sz="3200"/>
            </a:br>
            <a:r>
              <a:rPr b="1" lang="sl-SI" sz="3200" spc="-1" strike="noStrike">
                <a:solidFill>
                  <a:srgbClr val="edf0f1"/>
                </a:solidFill>
                <a:latin typeface="Cooper Bold YU"/>
              </a:rPr>
              <a:t> </a:t>
            </a:r>
            <a:r>
              <a:rPr b="1" lang="en-US" sz="3200" spc="-1" strike="noStrike">
                <a:solidFill>
                  <a:srgbClr val="edf0f1"/>
                </a:solidFill>
                <a:latin typeface="Cooper Bold YU"/>
              </a:rPr>
              <a:t>тенденција</a:t>
            </a:r>
            <a:r>
              <a:rPr b="1" lang="sl-SI" sz="3200" spc="-1" strike="noStrike">
                <a:solidFill>
                  <a:srgbClr val="edf0f1"/>
                </a:solidFill>
                <a:latin typeface="Cooper Bold YU"/>
              </a:rPr>
              <a:t> </a:t>
            </a:r>
            <a:r>
              <a:rPr b="1" lang="en-US" sz="3200" spc="-1" strike="noStrike">
                <a:solidFill>
                  <a:srgbClr val="edf0f1"/>
                </a:solidFill>
                <a:latin typeface="Cooper Bold YU"/>
              </a:rPr>
              <a:t>према</a:t>
            </a:r>
            <a:r>
              <a:rPr b="1" lang="sl-SI" sz="3200" spc="-1" strike="noStrike">
                <a:solidFill>
                  <a:srgbClr val="edf0f1"/>
                </a:solidFill>
                <a:latin typeface="Cooper Bold YU"/>
              </a:rPr>
              <a:t> </a:t>
            </a:r>
            <a:r>
              <a:rPr b="1" lang="en-US" sz="3200" spc="-1" strike="noStrike">
                <a:solidFill>
                  <a:srgbClr val="edf0f1"/>
                </a:solidFill>
                <a:latin typeface="Cooper Bold YU"/>
              </a:rPr>
              <a:t>каријесу</a:t>
            </a:r>
            <a:br>
              <a:rPr sz="3200"/>
            </a:br>
            <a:r>
              <a:rPr b="1" lang="en-US" sz="3200" spc="-1" strike="noStrike">
                <a:solidFill>
                  <a:srgbClr val="edf0f1"/>
                </a:solidFill>
                <a:latin typeface="Cooper Bold YU"/>
              </a:rPr>
              <a:t>хиполазија</a:t>
            </a:r>
            <a:r>
              <a:rPr b="1" lang="sl-SI" sz="3200" spc="-1" strike="noStrike">
                <a:solidFill>
                  <a:srgbClr val="edf0f1"/>
                </a:solidFill>
                <a:latin typeface="Cooper Bold YU"/>
              </a:rPr>
              <a:t> </a:t>
            </a:r>
            <a:r>
              <a:rPr b="1" lang="en-US" sz="3200" spc="-1" strike="noStrike">
                <a:solidFill>
                  <a:srgbClr val="edf0f1"/>
                </a:solidFill>
                <a:latin typeface="Cooper Bold YU"/>
              </a:rPr>
              <a:t>гле</a:t>
            </a:r>
            <a:r>
              <a:rPr b="1" lang="sr-RS" sz="3200" spc="-1" strike="noStrike">
                <a:solidFill>
                  <a:srgbClr val="edf0f1"/>
                </a:solidFill>
                <a:latin typeface="Cooper Bold YU"/>
              </a:rPr>
              <a:t>ђ</a:t>
            </a:r>
            <a:r>
              <a:rPr b="1" lang="en-US" sz="3200" spc="-1" strike="noStrike">
                <a:solidFill>
                  <a:srgbClr val="edf0f1"/>
                </a:solidFill>
                <a:latin typeface="Cooper Bold YU"/>
              </a:rPr>
              <a:t>и</a:t>
            </a:r>
            <a:br>
              <a:rPr sz="3200"/>
            </a:br>
            <a:br>
              <a:rPr sz="3200"/>
            </a:b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МИШИЋИ</a:t>
            </a:r>
            <a:br>
              <a:rPr sz="44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хипотонија </a:t>
            </a:r>
            <a:br>
              <a:rPr sz="3200"/>
            </a:b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06044F07"/>
          <p:cNvPicPr/>
          <p:nvPr/>
        </p:nvPicPr>
        <p:blipFill>
          <a:blip r:embed="rId1"/>
          <a:stretch/>
        </p:blipFill>
        <p:spPr>
          <a:xfrm>
            <a:off x="2438280" y="1066680"/>
            <a:ext cx="3633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06044F09"/>
          <p:cNvPicPr/>
          <p:nvPr/>
        </p:nvPicPr>
        <p:blipFill>
          <a:blip r:embed="rId1"/>
          <a:stretch/>
        </p:blipFill>
        <p:spPr>
          <a:xfrm>
            <a:off x="1676520" y="1600200"/>
            <a:ext cx="5257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320" y="795240"/>
            <a:ext cx="7772400" cy="484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ДИЈАГНОЗА</a:t>
            </a:r>
            <a:br>
              <a:rPr sz="4800"/>
            </a:br>
            <a:br>
              <a:rPr sz="4800"/>
            </a:b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АНАМНЕЗА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КЛИНИЧКИ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НАЛАЗ</a:t>
            </a: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БИОХЕМИЈА</a:t>
            </a: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РТГ</a:t>
            </a:r>
            <a:r>
              <a:rPr b="0" lang="sl-SI" sz="4400" spc="-1" strike="noStrike">
                <a:solidFill>
                  <a:srgbClr val="061c62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320" y="1677960"/>
            <a:ext cx="7772400" cy="35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ИЗВОР</a:t>
            </a: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ВИТАМИНА</a:t>
            </a: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Д</a:t>
            </a:r>
            <a:br>
              <a:rPr sz="4800"/>
            </a:br>
            <a:br>
              <a:rPr sz="4800"/>
            </a:b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КОЖА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ХРАНА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1372680"/>
            <a:ext cx="7772400" cy="441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БИОХЕМИЈА</a:t>
            </a:r>
            <a:br>
              <a:rPr sz="4800"/>
            </a:br>
            <a:br>
              <a:rPr sz="48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Ц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у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серуму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sl-SI" sz="3200" spc="-1" strike="noStrike">
                <a:solidFill>
                  <a:srgbClr val="061c62"/>
                </a:solidFill>
                <a:latin typeface="Wingdings 3"/>
                <a:ea typeface="Wingdings 3"/>
              </a:rPr>
              <a:t></a:t>
            </a:r>
            <a:br>
              <a:rPr sz="3200"/>
            </a:b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Ф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у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серуму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sl-SI" sz="3200" spc="-1" strike="noStrike">
                <a:solidFill>
                  <a:srgbClr val="061c62"/>
                </a:solidFill>
                <a:latin typeface="Wingdings 3"/>
                <a:ea typeface="Wingdings 3"/>
              </a:rPr>
              <a:t></a:t>
            </a: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Алкалн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фосфатаз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sl-SI" sz="3200" spc="-1" strike="noStrike">
                <a:solidFill>
                  <a:srgbClr val="061c62"/>
                </a:solidFill>
                <a:latin typeface="Wingdings 3"/>
                <a:ea typeface="Wingdings 3"/>
              </a:rPr>
              <a:t></a:t>
            </a: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калциуриј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sl-SI" sz="3200" spc="-1" strike="noStrike">
                <a:solidFill>
                  <a:srgbClr val="061c62"/>
                </a:solidFill>
                <a:latin typeface="Wingdings 3"/>
                <a:ea typeface="Wingdings 3"/>
              </a:rPr>
              <a:t></a:t>
            </a: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фосфатуриј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sl-SI" sz="3200" spc="-1" strike="noStrike">
                <a:solidFill>
                  <a:srgbClr val="061c62"/>
                </a:solidFill>
                <a:latin typeface="Wingdings 3"/>
                <a:ea typeface="Wingdings 3"/>
              </a:rPr>
              <a:t></a:t>
            </a:r>
            <a:br>
              <a:rPr sz="3200"/>
            </a:b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76320" y="659880"/>
            <a:ext cx="863784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RTG </a:t>
            </a:r>
            <a:endParaRPr b="0" lang="en-US" sz="48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10" name="Picture 3" descr="06044f08a"/>
          <p:cNvPicPr/>
          <p:nvPr/>
        </p:nvPicPr>
        <p:blipFill>
          <a:blip r:embed="rId1"/>
          <a:stretch/>
        </p:blipFill>
        <p:spPr>
          <a:xfrm>
            <a:off x="380880" y="2438280"/>
            <a:ext cx="1492200" cy="39625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06044F08B"/>
          <p:cNvPicPr/>
          <p:nvPr/>
        </p:nvPicPr>
        <p:blipFill>
          <a:blip r:embed="rId2"/>
          <a:stretch/>
        </p:blipFill>
        <p:spPr>
          <a:xfrm>
            <a:off x="2057400" y="2133720"/>
            <a:ext cx="1682640" cy="4267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06044F08C"/>
          <p:cNvPicPr/>
          <p:nvPr/>
        </p:nvPicPr>
        <p:blipFill>
          <a:blip r:embed="rId3"/>
          <a:stretch/>
        </p:blipFill>
        <p:spPr>
          <a:xfrm>
            <a:off x="3962520" y="1905120"/>
            <a:ext cx="1303200" cy="4495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06044F08D"/>
          <p:cNvPicPr/>
          <p:nvPr/>
        </p:nvPicPr>
        <p:blipFill>
          <a:blip r:embed="rId4"/>
          <a:stretch/>
        </p:blipFill>
        <p:spPr>
          <a:xfrm>
            <a:off x="5410080" y="2133720"/>
            <a:ext cx="1954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808200"/>
            <a:ext cx="7772400" cy="49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ДИФЕРЕНЦИЈАЛНА</a:t>
            </a: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ДИЈАГНОЗА</a:t>
            </a:r>
            <a:br>
              <a:rPr sz="4800"/>
            </a:br>
            <a:br>
              <a:rPr sz="48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хидроцефалус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остеогенезис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имперфекта</a:t>
            </a: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скорбут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,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хондродистрофија</a:t>
            </a: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генетск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основа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320" y="1128600"/>
            <a:ext cx="7772400" cy="46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ТЕРАПИЈА</a:t>
            </a:r>
            <a:br>
              <a:rPr sz="4800"/>
            </a:br>
            <a:br>
              <a:rPr sz="48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Витамин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Д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2000-5000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и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.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ј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. 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пер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ос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корекциј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погрешне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исхране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ортопедско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лечење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491760"/>
            <a:ext cx="7772400" cy="545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АЛКАЛНА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ФОСФАТ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A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ЗА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У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ПАДУ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РТГ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ПРОМЕН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E </a:t>
            </a: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ВИДЉИВЕ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ЗА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2-3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НЕД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E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ЉЕ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914400"/>
            <a:ext cx="7772400" cy="533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ПРЕВЕНЦИЈА</a:t>
            </a:r>
            <a:br>
              <a:rPr sz="4800"/>
            </a:br>
            <a:br>
              <a:rPr sz="4800"/>
            </a:b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ВИТ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Д</a:t>
            </a:r>
            <a:br>
              <a:rPr sz="44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400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и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.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ј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дневно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400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и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.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ј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прематуруси</a:t>
            </a: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у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 2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години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400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и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.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ј.</a:t>
            </a: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у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3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години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400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и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.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ј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.</a:t>
            </a:r>
            <a:br>
              <a:rPr sz="3200"/>
            </a:br>
            <a:br>
              <a:rPr sz="3200"/>
            </a:b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ПРАВИЛНА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ИСХРАНА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1294920"/>
            <a:ext cx="693396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                 </a:t>
            </a:r>
            <a:br>
              <a:rPr sz="4800"/>
            </a:b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      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КОЖА</a:t>
            </a:r>
            <a:br>
              <a:rPr sz="4800"/>
            </a:br>
            <a:br>
              <a:rPr sz="4800"/>
            </a:b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     </a:t>
            </a:r>
            <a:br>
              <a:rPr sz="4400"/>
            </a:b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7 –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ДЕХИ</a:t>
            </a:r>
            <a:r>
              <a:rPr b="0" lang="sr-RS" sz="4400" spc="-1" strike="noStrike">
                <a:solidFill>
                  <a:srgbClr val="061c62"/>
                </a:solidFill>
                <a:latin typeface="Cooper Bold YU"/>
              </a:rPr>
              <a:t>Д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Р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O</a:t>
            </a:r>
            <a:r>
              <a:rPr b="0" lang="sr-RS" sz="4400" spc="-1" strike="noStrike">
                <a:solidFill>
                  <a:srgbClr val="061c62"/>
                </a:solidFill>
                <a:latin typeface="Cooper Bold YU"/>
              </a:rPr>
              <a:t>Х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O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Л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E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СТ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E</a:t>
            </a:r>
            <a:r>
              <a:rPr b="0" lang="sr-RS" sz="4400" spc="-1" strike="noStrike">
                <a:solidFill>
                  <a:srgbClr val="061c62"/>
                </a:solidFill>
                <a:latin typeface="Cooper Bold YU"/>
              </a:rPr>
              <a:t>РОЛ</a:t>
            </a:r>
            <a:br>
              <a:rPr sz="4400"/>
            </a:b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  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320" y="1752120"/>
            <a:ext cx="7772400" cy="380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  </a:t>
            </a: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ХРАНА</a:t>
            </a: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  </a:t>
            </a:r>
            <a:br>
              <a:rPr sz="4800"/>
            </a:br>
            <a:br>
              <a:rPr sz="4800"/>
            </a:b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   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БИЉНОГ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ПОРЕКЛА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br>
              <a:rPr sz="4400"/>
            </a:b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    </a:t>
            </a:r>
            <a:r>
              <a:rPr b="0" lang="sl-SI" sz="3200" spc="-1" strike="noStrike">
                <a:solidFill>
                  <a:srgbClr val="061c62"/>
                </a:solidFill>
                <a:latin typeface="Wingdings 2"/>
                <a:ea typeface="Wingdings 2"/>
              </a:rPr>
              <a:t>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морске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алге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Wingdings 2"/>
                <a:ea typeface="Wingdings 2"/>
              </a:rPr>
              <a:t>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печурке</a:t>
            </a:r>
            <a:br>
              <a:rPr sz="3200"/>
            </a:b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81240" y="837720"/>
            <a:ext cx="8762760" cy="521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ЖИВОТИЊСКОГ</a:t>
            </a: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ПОРЕКЛА</a:t>
            </a:r>
            <a:br>
              <a:rPr sz="4800"/>
            </a:br>
            <a:br>
              <a:rPr sz="4800"/>
            </a:br>
            <a:r>
              <a:rPr b="0" lang="sl-SI" sz="3200" spc="-1" strike="noStrike">
                <a:solidFill>
                  <a:srgbClr val="061c62"/>
                </a:solidFill>
                <a:latin typeface="Wingdings 2"/>
                <a:ea typeface="Wingdings 2"/>
              </a:rPr>
              <a:t>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рибље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уље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8100-30000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и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.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ј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./100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мл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(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ГадусМорхуа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Wingdings 2"/>
                <a:ea typeface="Wingdings 2"/>
              </a:rPr>
              <a:t>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жуманац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50-400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и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.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ј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.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Wingdings 2"/>
                <a:ea typeface="Wingdings 2"/>
              </a:rPr>
              <a:t>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хумано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млеко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 0,3-10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и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.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ј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/100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мл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Wingdings 2"/>
                <a:ea typeface="Wingdings 2"/>
              </a:rPr>
              <a:t>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кравље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млеко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0,3-4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и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.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ј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. 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sl-SI" sz="3200" spc="-1" strike="noStrike">
                <a:solidFill>
                  <a:srgbClr val="061c62"/>
                </a:solidFill>
                <a:latin typeface="Wingdings 2"/>
                <a:ea typeface="Wingdings 2"/>
              </a:rPr>
              <a:t>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бутер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80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и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.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ј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./100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гр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152280" y="276120"/>
            <a:ext cx="8229600" cy="642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БИОХЕМИЈА</a:t>
            </a: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 </a:t>
            </a:r>
            <a:br>
              <a:rPr sz="4800"/>
            </a:b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ВИТАМИНА</a:t>
            </a: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Д</a:t>
            </a:r>
            <a:br>
              <a:rPr sz="48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кожа</a:t>
            </a:r>
            <a:br>
              <a:rPr sz="3600"/>
            </a:br>
            <a:r>
              <a:rPr b="0" lang="sl-SI" sz="3200" spc="-1" strike="noStrike">
                <a:solidFill>
                  <a:srgbClr val="061c62"/>
                </a:solidFill>
                <a:latin typeface="Wingdings 3"/>
                <a:ea typeface="Wingdings 3"/>
              </a:rPr>
              <a:t></a:t>
            </a: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УВ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250-312 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  <a:ea typeface="Times New Roman"/>
              </a:rPr>
              <a:t>µ</a:t>
            </a: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Вит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Д</a:t>
            </a:r>
            <a:r>
              <a:rPr b="0" lang="sl-SI" sz="3200" spc="-1" strike="noStrike" baseline="-25000">
                <a:solidFill>
                  <a:srgbClr val="061c62"/>
                </a:solidFill>
                <a:latin typeface="Cooper Bold YU"/>
              </a:rPr>
              <a:t>3</a:t>
            </a: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јетра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sl-SI" sz="3200" spc="-1" strike="noStrike">
                <a:solidFill>
                  <a:srgbClr val="061c62"/>
                </a:solidFill>
                <a:latin typeface="Wingdings 3"/>
                <a:ea typeface="Wingdings 3"/>
              </a:rPr>
              <a:t>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25-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ОХ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калциферол</a:t>
            </a: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бубрег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sl-SI" sz="3200" spc="-1" strike="noStrike">
                <a:solidFill>
                  <a:srgbClr val="061c62"/>
                </a:solidFill>
                <a:latin typeface="Wingdings 3"/>
                <a:ea typeface="Wingdings 3"/>
              </a:rPr>
              <a:t>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1,25 (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ОХ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)</a:t>
            </a:r>
            <a:r>
              <a:rPr b="0" lang="sl-SI" sz="3200" spc="-1" strike="noStrike" baseline="-25000">
                <a:solidFill>
                  <a:srgbClr val="061c62"/>
                </a:solidFill>
                <a:latin typeface="Cooper Bold YU"/>
              </a:rPr>
              <a:t>2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холекалциферол</a:t>
            </a:r>
            <a:r>
              <a:rPr b="0" lang="sl-SI" sz="4400" spc="-1" strike="noStrike" baseline="-25000">
                <a:solidFill>
                  <a:srgbClr val="061c62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228600" y="596520"/>
            <a:ext cx="8686800" cy="557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ФУНКЦИЈЕ</a:t>
            </a: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ВИТ</a:t>
            </a: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Д</a:t>
            </a: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 </a:t>
            </a:r>
            <a:br>
              <a:rPr sz="4800"/>
            </a:br>
            <a:br>
              <a:rPr sz="3200"/>
            </a:b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ГЛАВНА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УЛОГА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РЕГУЛАЦИЈ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ХОМЕОСТАЗЕ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КАЛЦИЈУМА И ФОСФОРА 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br>
              <a:rPr sz="3200"/>
            </a:b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1.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црева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2.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кости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  3.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бубрези</a:t>
            </a:r>
            <a:r>
              <a:rPr b="0" lang="sl-SI" sz="4400" spc="-1" strike="noStrike">
                <a:solidFill>
                  <a:srgbClr val="061c62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762120" y="837720"/>
            <a:ext cx="9144000" cy="51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61c62"/>
                </a:solidFill>
                <a:latin typeface="Times New Roman"/>
              </a:rPr>
              <a:t>      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1.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Синтез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т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р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нспо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р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т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н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o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г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протеин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 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з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калцијум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у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цревним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рес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и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цам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</a:t>
            </a:r>
            <a:br>
              <a:rPr sz="3200"/>
            </a:b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2.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Пов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o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љан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од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н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o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с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калцијума и фосфор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              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 -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з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минерал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и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з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цију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костију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 -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ствар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ње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д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e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нти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н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i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ем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јл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зуб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 -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спречав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демин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e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рал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и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з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цију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костију</a:t>
            </a:r>
            <a:br>
              <a:rPr sz="3200"/>
            </a:b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3.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Стимул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и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ше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р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e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со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р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пцију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Ц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,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Ф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,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Н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¸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АК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 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          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у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т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у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б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у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лим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бу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б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рега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506160"/>
            <a:ext cx="7772400" cy="551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ПОТРЕБЕ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ОДОЈЧЕ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МОРА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СВАКОДНЕВНО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ДА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УНОСИ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br>
              <a:rPr sz="4400"/>
            </a:br>
            <a:br>
              <a:rPr sz="4400"/>
            </a:b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400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и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.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ј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.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ВИТАМИНА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Д</a:t>
            </a:r>
            <a:r>
              <a:rPr b="0" lang="sl-SI" sz="4400" spc="-1" strike="noStrike">
                <a:solidFill>
                  <a:srgbClr val="061c62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1T15:32:55Z</dcterms:created>
  <dc:creator>No Name</dc:creator>
  <dc:description/>
  <dc:language>en-US</dc:language>
  <cp:lastModifiedBy>Natasa</cp:lastModifiedBy>
  <dcterms:modified xsi:type="dcterms:W3CDTF">2020-09-30T20:07:22Z</dcterms:modified>
  <cp:revision>15</cp:revision>
  <dc:subject/>
  <dc:title>VITAMIN D U ISHRANI ODOJČADI   Doc dr Biljana Vuletić  Pedijatrijska klinika Kragujevac</dc:title>
</cp:coreProperties>
</file>