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DE8-8A25-4052-92E4-20416854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FDF-715F-42F5-8AFE-F5BE5CFE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072-EC65-47DC-96BC-D66778C1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536-631E-47A7-BD46-E0EA88DE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63723-1F07-419A-BCDD-8C040E6F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9B50F-779A-4B81-AD86-B2998149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99C8F-27E7-4F76-9FA8-0D53110C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BBFFE-C7C2-4C4F-A1E5-3DD06045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01906-3960-4032-8E0C-777CE6AF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95589-29D0-45C2-9408-933FEB5B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A32F8-928E-4B72-A873-65B065F8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84B-3F09-4750-8A1F-F953856F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5D38B-3515-41F9-AEB4-D92AB6C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923F2-4A58-4467-AA93-EC1A6074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94AB8-B38C-4853-AC08-6FD857B5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D6A90-C90E-4DB2-BA56-671229D6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ED023-2EFC-43F1-B54F-6990F882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E1D-6AD2-4F4F-8964-47E57DF7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C0D-DDF4-4910-B81C-EDE0A677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4ED-154F-4103-9195-541F3717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220-9AF1-4919-A428-654F9803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456-0596-47C4-B3E1-3198BC30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53E-4CCB-41C3-ACF4-D006D7DB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7A3-FD28-4AD7-8AED-5D5FFE3D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EC9D-0C8C-41F9-BD62-3B43F5028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954E-32A1-4845-8601-BE34A09F87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</a:rPr>
              <a:t>ВИРУСНИ ХЕПАТИТИ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76520" y="1987560"/>
            <a:ext cx="76086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ЛИКИ ЗДРАВСТВЕНИ ПРОБЛЕМ У РАЗВИЈЕН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НЕРАЗВИЈЕНИМ ЗЕМЉА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41560" y="3429000"/>
            <a:ext cx="3969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И ВИР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,Б,Ц,Д,Е и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62120" y="4724280"/>
            <a:ext cx="4995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РПЕС СИМПЛЕ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ПШТАЈН Б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ИТОМЕГАЛОВ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962600" y="2971800"/>
            <a:ext cx="28890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 ВАРИЧ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УБЕ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ДЕНОВ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АРВОВ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85800" cy="1028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5280840" y="1295280"/>
            <a:ext cx="345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ф</a:t>
            </a:r>
            <a:r>
              <a:rPr b="1" lang="sr-Latn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р</a:t>
            </a:r>
            <a:r>
              <a:rPr b="1" lang="sr-Latn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ЉАНА</a:t>
            </a:r>
            <a:r>
              <a:rPr b="1" lang="sr-Latn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УЛЕТИЋ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52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80160" y="2971800"/>
            <a:ext cx="80690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РОЛОГИЈА  АНТИХАВ ИГМ НА ПОЧЕТКУ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СТАЈУ 4-6 МЕСЕ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КОН ТОГА ИГ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80880" y="4648320"/>
            <a:ext cx="78850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 СЕ ЕКСКРЕТУЈЕ СТОЛИЦОМ  2 НЕДЕЉ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ЛЕ ПОЧЕТКА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36120" y="2825640"/>
            <a:ext cx="55346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СЕ СКОРО УВЕК КОМПЛЕТ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ПОРАВЕ ОД ХАВ ИНФЕК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309680" y="4137120"/>
            <a:ext cx="6363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ТКО СЕ ЈАВЊА ФУЛНИНАНТ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ИТИС СА ОПАДАЊЕМ СИНТЕТС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УНКЦИЈЕ ЈЕТ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РЕВЕНЦ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209680"/>
            <a:ext cx="751212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СОБЕ ИНФИЦИРАНЕ СА ХАВ СУ КОНТАГИОЗ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7 ДАНА НАКОН ПОЧЕТКА ЖУТИЦ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ОРАЈУ СЕ ИЗДВОЈИТИ ИЗ ШК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РТИЋ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КОМ ТОГ ПЕРИОДА ДЕТАЉНО ПРАЊЕ РУ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БОЛНИЦ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НТАКТ СА ОПРЕ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РИКТНО ПРАЊЕ РУ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98560" y="484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000"/>
            </a:b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ВАКЦИНА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1800" y="2665440"/>
            <a:ext cx="7488000" cy="274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ДЕЦЕ СТАРИЈЕ ОД 2 ГОДИН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НТРАМУСКУЛАРНО У 2 ДОЗЕ ПОСЛЕ 6 –12 МЕСЕ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 СЕ ДАВАТИ СА ДРУГИМ ВАКЦИН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ВАКЦИН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80880" y="2438280"/>
            <a:ext cx="8534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ЧНЕ ГРУП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СТАРИЈА ОД 2 ГОД У ЕНДЕНСКИМ ПОДРУЧЈ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АЦ СЕ ХРОН БОЛЕСТИ ЈЕ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ЖИВАОЦИ ДРОГЕ. ХОМОСЕКСУАЛЦ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ФЕСИОНАЛНА ИЗЛОЖЕМ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СОБЕ СА ПОРЕМЕЋАЈЕМ  КОАГ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РЕВЕНЦИЈА ИМУНОГЛОБУЛИ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42640" y="2362320"/>
            <a:ext cx="859788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ДИКАЦИЈ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ФИЛАКС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 ПОСЛЕ ИЗЛАГАЊА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ОВАЊ У ЕНДЕМСКО ПОДРУЧ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РИЈА ОД 2 ГОД ПРВА ДОЗ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1 МЕС ПРЕ ПОЛАСК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ЛЕ ЕКСПОЗИ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ДОМАЋИНСТВУ СЕКСУАЛНОМ ПАРТНЕ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ОВ ИНФИЦИРАНИХ МАЈ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ДНИЦИ У ШКОЛАМА ВРТИЋИМА И ДЕ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КОМ ЕПИДЕ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ПИДЕМИЈЕ У БОЛНИ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81560" y="1676520"/>
            <a:ext cx="269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НК ВИРУС ХБ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068480" y="2438280"/>
            <a:ext cx="6162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РШИНА 2 ЧЕСТИЦЕ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ИТИС Б ПОВРШИНСКИ АГ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bS 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72680" y="3657600"/>
            <a:ext cx="7857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УТРАШЊИ ДЕО ХЕПАТИТИС Б СРЖНИ АГ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bCA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bEAg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КОЈИ ЈЕ МАРКЕР ВИРУСНЕ РЕПЛИКАЦ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082520" y="5111640"/>
            <a:ext cx="729324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ПЛИКАЦИЈА У ЈЕТРИ АЛИ И ЛИМФАТИЦ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ЛЕЗИНИ БУБРЕГУ И ПАНКРЕАС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857160" y="2514600"/>
            <a:ext cx="73832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ЕЋА ПРЕВАЛЕНЦА АФРИКА САХАРА К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ЛИСКИ ИС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300 000 НИВИХ СВАКЕ ГОД У У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55960" y="4114800"/>
            <a:ext cx="609552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 ОД ХР ИНФЕКЦИЈЕ ЈЕ ОБРНУ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ПОРЦИОНАЛАНАН СА УЗРА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10% СВИХ ИНФ СЕ ЈАВЉА КОД ДЕЦ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ТОЈ ГРУПИ 20-30%  ХРОН ИНФЕК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08960" y="3375000"/>
            <a:ext cx="803556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ЕЋИ РИЗИК ПЕРИНАТАЛНА ЕКСПОЗИ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БС + МАЈКА  ЈОШ ВЕЋИ АКО ЈЕ ОНА ХБЕ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70-90% ОВЕ ДЕЦЕ БИЋЕ ХРОНИЧАРИ АКО СЕ НЕ ЛЕЧ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93480" y="2460600"/>
            <a:ext cx="82760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ЋИНА ДЕЦЕ + МАЈКЕ РАЗВИЈУ АГ- НЕМИЈ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МЕЂУ 2  И 5 МЕС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КА НЕ ПОКАЗУЈУ ЗНАКЕ ДО КАСНЕ ЖИВОТНЕ ДО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91800" y="4114800"/>
            <a:ext cx="89924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МА ДОКАЗА О ПРИСУСТВУ ХБСАГ У МАЈЧИНОМ МЛЕ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ЈЕЊЕ НЕИМУНИЗОВАНЕ ДЕЦЕ ИНФИЦИРАНИХ МАЈ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 ПРЕДСТАВЉА РИЗ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17040" y="2362320"/>
            <a:ext cx="5784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ИТИС А ВИРУС  ЈЕ РНК ВИРУ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АМИЛИЈА ПИКОРНА ВИРУ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61840" y="3892680"/>
            <a:ext cx="49341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ГЛОБУЛИНИ КЛАСЕ 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gM HAV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062800" y="5562720"/>
            <a:ext cx="46306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ФЕКЦИЈА ЈЕ УВЕК АКУТ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24880" y="2174760"/>
            <a:ext cx="86371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РУГИ ВАЖАН НАЧИ АКТИВАЦИЈЕ ХБ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ФЕКЦИЈЕ ЈЕ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В АПЛИКАЦИЈА ЛЕКОВА ИЛИ КРВ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 40% СЛ НИЈЕ УТВРЂЕН РИЗИЧНИ ФА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32200" y="3733920"/>
            <a:ext cx="88873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БВ ЈЕ ПРИСУТАН У ВИСОКИМ КОНЦЕНТРАЦИЈАМА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РВИ, СЕРУМУ, СЕРОЗНИМ ТЕЧНОСТИМ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МЕРЕНО У ПЉУВАЧКИ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ВАГИНИ И СПЕР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6920" y="5257800"/>
            <a:ext cx="796068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 45 –160 ДА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СРЕДЊЕ ОКО 120 Д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</a:t>
            </a: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 ПАТОГЕНЕ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85280" y="2438280"/>
            <a:ext cx="6019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И ОДГОВОР ЈЕТРЕ ИСТИ НА С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Е ВИРУ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2520" y="3622680"/>
            <a:ext cx="88538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БВ РАЗЛИКУЈЕ ОД ДРУГИХ -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ЦИТОПАТОГЕНЕТСК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РЕДНО ПРЕКО ИМУНОГ СИСТ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ЗБИЉНОСТ ОШТЕЋЕЊА ОДГОВАРА НИВОУ ИМУНОГ ОД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1120" y="337680"/>
            <a:ext cx="7627680" cy="91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ПАТОГЕНЕЗ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93960" y="1752480"/>
            <a:ext cx="902304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ВИ КОРАК  У АКУТНОМ  ПРОЦЕСУ ЈЕ ИНФ СА ХБ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НИ АГ НА ПОВРШИНИ ЋЕЛ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АЖНИЈИ АГ ЈЕ ХБЦ И ХБЕ А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ДРУЖЕНИ СТВАРАЈ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 ХЕПАТОЦИТА МЕТУ ЗА ЦИТОТОКСИЧНЕ Т ЛИМФОЦ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40120" y="3984480"/>
            <a:ext cx="86511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ХАНИЗАМ РАЗВОЈА ХР ХЕП НЕДОВОЉНО ЈАС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 ПОСРЕДОВАНИ МЕЈАНИЗМИ МОГУ 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КРИВИТИ З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ТРАХЕПАТИЧНЕ МАНИФЕСТАЦИ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1440" y="5410080"/>
            <a:ext cx="89056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ТАЦИЈЕ КОД ХБВ СУ ЧЕШЋЕ НЕГО КОД РУГИХ ДНК В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ЛИНИЧКА СЛ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94320" y="2708280"/>
            <a:ext cx="920268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ЕСТО АСИМПТОМАТС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СОКА СТОПА НОСИОЦА СЕРУМСКИХ МАРК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ЈИ НЕМАЈУ У АНАМНЕЗИ ЗНАКЕ  АКУТНОГ ХЕПАТИТИ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221840" y="4232160"/>
            <a:ext cx="76896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СИМПТОМАТСКА ЕПИЗОДА ХБВ СЛИЧНА К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ВЦ И ХВА АЛИ И ОЗБИЉНИЈА СА СИМПТОМ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  КОЖИ И ЗГЛОБОВ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279440" y="5603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ЛИНИЧКА СЛ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990720" y="2068560"/>
            <a:ext cx="6858000" cy="357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ВИ НАЛАЗ РАСТ АЛТ ПРЕ ПОЈАВЕ ЛЕТАРГИЈ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ОРЕКСИЈЕ И СЛАБОСТИ 6-7 НЕДЕЉА НАКОН ИЗЛАГАЊА НАСТАВАК КАО ИМИТАЦИЈА СЕРУМСКЕ БОЛЕСТИ АРТРАЛГИЈА И КОЖНЕ ЛЕЗИЈЕ,УРТИКАРИЈА, ПУРПУРА,МАКУЛО ПУРПУРА АКРОДЕРМАТИТИС, ПОЛИАРТЕРИТИС, АПЛАСТИЧНА АНЕМ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419720" y="236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ЛИНИЧКА СЛ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11640" y="4114800"/>
            <a:ext cx="7677360" cy="1557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. НАЛАЗ ИКТЕРИЧНА КОЖА И СЛУЗОКОЖ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ПОД ЈЕЗИ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ТРА ЈЕ УВЕЋАНА,БОЛНА НА ПАЛПАЦИЈ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ПЛЕНОМЕГАЛИЈА И ЛИМФАДЕН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04920" y="2819520"/>
            <a:ext cx="8686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УТИЦА ОКО 8 НЕДЕЉА ПОСЛЕ ИЗЛАГАЊ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РАЈЕ 4 НЕД.РЕЗОЛУЦИЈА ЗА НЕКИХ 6-8 НЕД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42640" y="2098800"/>
            <a:ext cx="874404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РОЛОШКА Д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БС АГ КОД СВИХ +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 РАСТ ПРАТИ ПОЈАВУ 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БЕ АГ + ТОКОМ АКУТНЕ ФАЗЕ И УКАЗУЈЕ НА ВРЛО ИНФ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90600" y="3962520"/>
            <a:ext cx="821988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МО АН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bSAt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СУ ПРИСУТНА КОД ОСОБ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ИЗОВАНЕ ХЕП Б ВАКЦИ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 ОСОБЕ КОЈА ЈЕ ИМАЛА ХЕП АНТИ ХБ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АНТИ ХБЦ 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ОМПЛИКАЦИЈ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55600" y="2882880"/>
            <a:ext cx="653112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И ФУЛМИНАНТНИ ОБЛИК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ИРО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ЦЕЛУЛАРНИ КАРЦ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ПРЕВЕНЦ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0880" y="2174760"/>
            <a:ext cx="5973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СТУПНЕ ХЕПАТИТИС Б ВАКЦИН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ГЛОБУЛИНИ ХБ И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77960" y="3429000"/>
            <a:ext cx="7113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 НИЈЕ ВАКЦИНИСАН НА РОЂЕЊУ 11 –12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90080" y="4578480"/>
            <a:ext cx="58028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ХБС + МАЈ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АКЦИНА НА РОЂЕЊУ  1-2 М И 6 М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ПРЕВЕНЦ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47920" y="2736720"/>
            <a:ext cx="817056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Н ХБС НЕГ МАЈКЕ ПРИМА ВАЦ 0-2 МЕС, 1-4 МЕ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6-18 М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ВЕ ТРИ ДОЗЕ СЕ ТРЕБАЈУ ДАТИ ИАКО ЈЕ ИНТЕРВ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МЕЂУ ПРДУЖЕН ИЗ НЕКОГ РАЗ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ЕПИДЕМИОЛОГ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838080" y="3086280"/>
            <a:ext cx="739152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АВЉА СЕ ШИРОМ СВЕ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УЧЕСТАЛИЈИ У НЕРАЗВИЈЕНИМ ЗЕМЉА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НЕКАД  ПРЕВАЛЕНЦА  100% У ДЕЦЕ ДО 5 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72480" y="533520"/>
            <a:ext cx="41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</a:rPr>
              <a:t>ХЕПАТИТИС 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934560" y="1717560"/>
            <a:ext cx="7581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КАДА НОН А НОН Б ДАНАС ХЕПАТОТИС Ц ИН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80880" y="2631960"/>
            <a:ext cx="88934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 НИЈЕ ИЗОЛОВ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ЛОНИРАН ТЕХНИКОМ РЕКОМБИНАНТНЕ ДНК 1988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НК ВИРУС ФЛАВИВИР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А 6 ОСНОВНИХ ГЕНОТИПОВА И БРОЈНЕ ПОДТИП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ЕНЕТСКЕ ВАРИЈАЦИЈЕ ОБЈАШЊАВАЈУ РАЗЛИЧИТЕ КЛ СЛ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 ЕПИДЕМИ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2240" y="3340080"/>
            <a:ext cx="921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ЦВ ЈЕ НАЈЧЕШЋИ УЗРОК ХРОНИЧНЕ БОЛЕСТИ ЈЕТ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САД 8-10 000 ЖИВОТА ОДНОСИ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4 МИЛ ЉУДИ УСА ИН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89% ИНФИЦИРАНИХ ОСТАЈЕ ИНФ ЦЕЛИ ЖИВ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АКО НЕДОСТАЈУ БИОХЕМ МАКРЕРИ ЈЕТРИНОГ ОШТЕЂ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52280" y="3886200"/>
            <a:ext cx="1097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 ЕПИДЕМИ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79120" y="5410080"/>
            <a:ext cx="514764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 7-9 НЕДЕЉА (2-20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752480"/>
            <a:ext cx="891540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О ФАКТОРИ ИЗМЕЊ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НИЈЕ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КО Т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ДА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ЛОУПТРЕБА НАРКОТИК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ГАЛА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ШЕ ОД ПОЛОВ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КСУАЛНА ТРАНСМИС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АТВОР 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ФЕС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10% НОВИХ СЛ ТРАНСМИСИЈА СЕ НЕ МОЖЕ ОБЈАСН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ЕРИАНАТЛНА ОПАСНА АЛИ  НИЈЕ ЧЕСТА ОСИМ АКО ЈЕ МАЈКА + 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СОК ТИТАР ХЦ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АТОГЕНЕ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95640" y="1676520"/>
            <a:ext cx="68968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ШТЕЋЕЊЕ ХЕПАТОЦИТА КАО КОД ДРУГ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ИХ ВИР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22800" y="2895480"/>
            <a:ext cx="8055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ЈСТВО ЦИТОПАТОГЕНЕТСКО  НЕ ИСКЛЉУЧУЈЕ 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ЛОВАЊЕ ПРЕКО ИМУНОГ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46960" y="4343400"/>
            <a:ext cx="84927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ИТОПАТОЛОШКИ ЕФЕКАТ ЈЕ БЛАГ С ОБЗИРОМ ДА 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А ИНФ СА ОВИМ ВИРУСОМ НАЈБЛАЖА ОД СВ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ИХ ВИР ОСИМ ХЦ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2080" y="2057400"/>
            <a:ext cx="8902440" cy="302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Л СЛИКА ИСТА КАО И КОД ДРУГИХ ХЕПАТОТРОПНИХ 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А БОЛЕСТ БЛА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ДМУКАО ПОЧЕТ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УЛМИНАНТНО ОШТЕЋЕНЈЕ РЕТ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85% ХР ИНФЕКЦИЈА СА ПОРАСТОМ ЕНЗ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ЛЕ 25 - 30 ГОД ПРОГРЕДИРА У 25% КА ЦИРОЗ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РЕМЕНО ХЕПАТОЦЕЛУЛАРНИ ЦА РЕЂЕ ОД ХБ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НКОГЕН КАПАЦИТЕТ ВИР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14800" y="2438280"/>
            <a:ext cx="75463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ТЕЛА НА ХЦВ АГ НЕ  ПОМАЖУ У ПРОГНО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As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МУНОЕСЕЈ ПОВЕЋАНЕ СЕНЗИ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125360" y="3886200"/>
            <a:ext cx="725652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ОЛЕСТ СЕ ДОКАЗУЈЕ ПОВИШЕНИМ АЛТ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ТВРЂУЈЕ БИОПСИЈОМ ЈЕ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ОН ИНФ  ВИСОК АЛ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ИБРОЗА ЈЕТРЕ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+ХЦВ РНК У КР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51520" y="2133720"/>
            <a:ext cx="8004960" cy="302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ВИ ПОЈЕДИНИЦИ И РИЗИКО ГРУПЕ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КРИНИ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В УЖИВАОЦИ ДР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ИМАОЦИ ФАКТОРА КОАГУЛА ПРЕ 198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 ДИЈАЛИ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 ПЕРЗИСТИРАЈУЋИМ АЛТ ЧАК И 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ИМИЛИ ТС ИЛИ ТРАНСПЛ. ПРЕ 199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УТИНСКИ СКРИНИГ НИЈЕ ПРЕПОР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457200" y="5486400"/>
            <a:ext cx="7924680" cy="11912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МАЈКИ +ХЦ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 ХЦВ ПОСЛЕ 12 М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ИА ТЕСТ ЦРП И РАНИЈЕ 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ТЕРАП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79080" y="2708280"/>
            <a:ext cx="821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ТЕРФЕРОН ОДГОВОР КОД 10-15% ПАЦИЈЕН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ОРМАЛАН  АЛТ И НЕГАТИВАН  ЦР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РЕФЕРОН И РИБАВИРИН КОД 1/3 ТЕРАПИЈА ИЗБ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96360" y="2556000"/>
            <a:ext cx="803556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 ОД ФУЛМИНАНТНЕ ФОРМЕ ЈАКО М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ЕЋИ СТЕПЕН РАЗВОЈА ХР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О ФАКТОР ЗА ФИБРОЗУ ЈЕ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РИЈА ДО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ШКИ ПОЛ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Н. УНОС 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ОРАЈУ БИТИ ИМНУЗОВАНА ХЕП Б И ХЕП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 БОЛЕСТ БЛАГА ЧАК И СА ЦИР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РЕВЕНЦ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440360" y="3079800"/>
            <a:ext cx="59079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МА ВАКЦИ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ЗА ХЦ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ГЛОБУЛИНИ НИСУ ЕФИКАС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210320" y="650880"/>
            <a:ext cx="5075640" cy="235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ЕНОС ИНФЕКЦИЈ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ЛИЧНИМ КОНТАК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ФЕКО ОРАЛНИМ ПУ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ЕРКУТАНА ТРАНСМИСИЈА РЕТ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АНСМИСИЈА МАЈКА - ДЕТЕ НИКА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440" y="3394080"/>
            <a:ext cx="73191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ФЕКЦИЈА ТОКОМ ТРУДНОЋЕ ИЛИ ПОРОЂА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ЕЗ КОМПЛИК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МА ПОРАСТА КЛИНИЧКИ ОБОЛЕЛЕ Н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9760" y="5264280"/>
            <a:ext cx="65876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ТИВНОСТ ПЉУВАЧКЕ, УРИНА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ЕРМЕ НИЈЕ ДОКАЗ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830520" y="270000"/>
            <a:ext cx="797292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ИЗ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НТАКТ СА ЗАРАЖЕНОМ ОСОБ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ВРТИЋУ, ДЕЧЈИМ ЦЕНТРИ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КОНТАМИНИР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АНА 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КОНТАМИНИРАНА РИБ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АМРЗНУТО ПОВРЋЕ,СИРОВИ ПРОИЗВО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ОВАЊЕ У ЕНДЕМСКА ПОДРУЧ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747800" y="3089160"/>
            <a:ext cx="52542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КСКРЕЦИЈА ВИРУСОМ САМО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КУБАЦИОНОМ ПЕРИО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ИК ПРЕ КРАЈА 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Н. У ЗАДЊОЈ НЕДЕЉИ ЖУТ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9800" y="5264280"/>
            <a:ext cx="621900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РЕДЊ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ОНИ ПЕРИОД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ХА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КО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4 НЕДЕЉ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ОПСЕГ 15 ДО 50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ПАТОГЕНЕ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52280" y="2441520"/>
            <a:ext cx="888840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ТРА ЈЕ ПРОЖЕТА НЕКР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АСНА ПРОМЕНА ЈЕТРЕ ЈЕ Р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ЛИФЕРАЦИЈА У ЖУЧНИМ ПУТЕВИМА БЕЗ ОШТЕЋЕЊ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35760" y="4648320"/>
            <a:ext cx="508788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ГЕНЕРАТИВНЕ ПРОМЕ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 3 МЕС ПОСЛЕ ИНФЕКЦ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ТРА ЈЕ МОРФОЛОШКИ УРЕД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ПАТОГЕНЕ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193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054880" y="3048120"/>
            <a:ext cx="4410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РАНСАМИНАЗЕ АСТ И АЛ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837440" y="4114800"/>
            <a:ext cx="4489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ОЛЕСТАЗНА ЖУТ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ГТ АЛП БИЛИРУБИН ПТ ПТ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29520" y="5257800"/>
            <a:ext cx="726876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РЕМЕЋАЈ МЕТАБОЛИЗМА УХ  И АМОНИЈ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ЛИНИЧКА СЛИК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57040" y="2797200"/>
            <a:ext cx="652356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ЕБРИЛНОСТ, ГРОЗН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КА, ПОВРАЋАЊЕ, АНОРЕКС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ЈАРЕ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УТИЦА ТАМАН УРИН И БЛЕДА СТО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ОЛ У ДЕСНОМ ГОРЊМ КВАДРАН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99640" y="5340240"/>
            <a:ext cx="3666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ПОРАВАК ЈЕ ПОТПУ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ТЕРАП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617480" y="3232080"/>
            <a:ext cx="6112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 СПЕЦИФИЧНОГ ТРЕТМ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УПОРТИВНА ТЕРАПИЈА РЕХИДР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ИГИЈЕНСКО - ДИЈЕТЕТСКИ РЕЖ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0T15:59:58Z</dcterms:created>
  <dc:creator>No Name</dc:creator>
  <dc:description/>
  <dc:language>en-US</dc:language>
  <cp:lastModifiedBy>Natasa</cp:lastModifiedBy>
  <dcterms:modified xsi:type="dcterms:W3CDTF">2020-09-30T20:07:50Z</dcterms:modified>
  <cp:revision>11</cp:revision>
  <dc:subject/>
  <dc:title>ВИРУСНИ ХЕПАТИТИС</dc:title>
</cp:coreProperties>
</file>